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A9E8-3AB9-4404-9630-4FF5E5146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7BC9-C5D0-40A2-BE4B-7C8E5EED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321C-E233-4B72-8D7B-305AF50E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0D71-F8B8-48AF-BFD7-8D167684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15B6A-39B0-4CDA-BD92-FC863F33F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4C620-927A-4E06-846A-E17F3A39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1A7F6-109C-48F2-A45A-9F9C0F0F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FC579-EAB3-419A-B62C-D39C2369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EEBAA-F8A4-41E0-B23B-084DBC57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39D51-BE80-4FF1-A052-D52EF15A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1CCA6-61A6-4531-9DB6-085FBC9F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0A0D-6CA3-44ED-B0EA-AD117AAC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DE4E5-7C91-4149-8C40-64C32A22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C1CF0-CC99-422C-8A17-76E69326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A255E-98C3-4CCA-B37B-D8B42714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2F3E1-9E51-4C66-A5F0-2737EDFE9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8F841-6BEF-4202-A4A9-B321EFC9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A012-55C0-4C5E-8A89-149CA9A1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4354-4ACC-4D6D-A0D2-E1BBF455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6C2C-1971-424B-8FD8-46A0FC9B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F871-1F95-4210-A6EA-A2592F78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3D8F-91FD-4131-A588-C996E4AB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97BE-CE97-46E5-B3A0-8E27BD13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D4A9-A72B-47BE-BD2E-CD085F29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CCCA-73EE-4CCA-AFEA-8116964C23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2470-B824-42EE-8D50-0770C83344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khulsey.com/hatchillustration/jhatch_tyrrell_formula_one.jpeg&amp;imgrefurl=http://www.khulsey.com/hatchillustration/jhatch_tyrrell_formula_one.html&amp;h=300&amp;w=720&amp;sz=76&amp;hl=en&amp;start=15&amp;tbnid=DoijlVWgZ96cYM:&amp;tbnh=58&amp;tbnw=140&amp;prev=/images%3Fq%3Dformula%2Bone%2Brace%2Bcar%26gbv%3D2%26svnum%3D10%26hl%3De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0000"/>
                </a:solidFill>
                <a:latin typeface="Tahoma"/>
              </a:rPr>
              <a:t>PETER AT THE RAC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0000"/>
                </a:solidFill>
                <a:latin typeface="Tahoma"/>
              </a:rPr>
              <a:t>BY STEVEN LEBRET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hapter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one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9e0000"/>
                </a:solidFill>
                <a:latin typeface="Tahoma"/>
              </a:rPr>
              <a:t>Peter wants to go to a Formula One race in Montreal. A Formula One race is called a Grand Prix. The race will be held on the weekend of June 12, 200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4267080"/>
            <a:ext cx="9144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APTER 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knows a lot about formula one race ca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ngine sits in back of the c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uspension connects the wheels to the c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odywork covers the eng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5105520"/>
            <a:ext cx="7619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Peter comes to the races, they are one man short for the ra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 Peter is asked to drive one of the ca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is scared that he doesn’t know how to drive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05120" y="4114800"/>
            <a:ext cx="7238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The race starts. They start to speed around the track. Peter is doing very well but then……his car spins out of contr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His clothes keep him safe from fire but he quickly has to get out of the c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Luckily, he is not dead but he doesn’t want to race any time so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191120" y="4543560"/>
            <a:ext cx="495288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ter had a great opportunity but he likes fixing cars better. It is safer and he doesn’t have to travel as muc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now on Peter will watch the Formula One races on televis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191120" y="3200400"/>
            <a:ext cx="4952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16:25:21Z</dcterms:created>
  <dc:creator>steven.lebreton</dc:creator>
  <dc:description/>
  <dc:language>en-US</dc:language>
  <cp:lastModifiedBy>steven.lebreton</cp:lastModifiedBy>
  <dcterms:modified xsi:type="dcterms:W3CDTF">2007-05-17T16:41:37Z</dcterms:modified>
  <cp:revision>7</cp:revision>
  <dc:subject/>
  <dc:title>PETER AT THE RAC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